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C7E-F3A7-4419-A483-E1440C0C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670-A2F4-46F0-BEA2-72E81D1D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0CC-6817-4F88-9770-02CC6B86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765-AA50-47CC-B030-15D9CB07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240-E832-4A0B-A79F-FF97780E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1E2-C291-46C9-801A-69C2277B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978-8F15-4B52-972A-89EB8EDC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FC5-1398-4363-8364-12A3C8C6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D16-9991-4FB4-8E39-F48D82BB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9CD-8B82-4CB4-BDB3-B762569A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0DF-6F12-4107-9C92-FD0012A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A8F-8F15-4C66-A7AC-A698439C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ab5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DE0-C36C-4555-8E0C-8C680907F40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3597120"/>
            <a:ext cx="41148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Verdana"/>
                <a:ea typeface="Times New Roman"/>
              </a:rPr>
              <a:t>Assembly Instruction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last updat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ctober 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E:\FH7\Earthmaker\pics-rgb\2006 assembled screen.jpg"/>
          <p:cNvPicPr/>
          <p:nvPr/>
        </p:nvPicPr>
        <p:blipFill>
          <a:blip r:embed="rId1"/>
          <a:stretch/>
        </p:blipFill>
        <p:spPr>
          <a:xfrm>
            <a:off x="4406760" y="0"/>
            <a:ext cx="4737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564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04920" y="2003400"/>
            <a:ext cx="5105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th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TOP PANE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rting with the back and sides, snap the slots over the tabs. </a:t>
            </a:r>
            <a:r>
              <a:rPr b="0" lang="en-US" sz="2400" spc="-1" strike="noStrike" u="sng">
                <a:solidFill>
                  <a:srgbClr val="333300"/>
                </a:solidFill>
                <a:uFillTx/>
                <a:latin typeface="Verdana"/>
                <a:ea typeface="Times New Roman"/>
              </a:rPr>
              <a:t>Support the side panels from the inside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while pushing the top panel down to make a definite click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nap the slots at the front over the tabs on the Front Panel while pushing the front panel out from the inside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c0000"/>
                </a:solidFill>
                <a:latin typeface="Verdana"/>
              </a:rPr>
              <a:t>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5356080" y="914400"/>
            <a:ext cx="3787920" cy="571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04920" y="2590920"/>
            <a:ext cx="47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Insert th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PULL-OUT PANEL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into the slot above the do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heck that the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DOOR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is correctly fitted.</a:t>
            </a:r>
            <a:r>
              <a:rPr b="0" lang="en-A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</a:rPr>
              <a:t>Place the door in the front panel so that its bottom edge fits behind the ri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c0000"/>
                </a:solidFill>
                <a:latin typeface="Verdana"/>
              </a:rPr>
              <a:t>9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4"/>
          <a:stretch/>
        </p:blipFill>
        <p:spPr>
          <a:xfrm>
            <a:off x="5402160" y="836640"/>
            <a:ext cx="3741840" cy="5759280"/>
          </a:xfrm>
          <a:prstGeom prst="rect">
            <a:avLst/>
          </a:prstGeom>
          <a:ln w="0">
            <a:noFill/>
          </a:ln>
        </p:spPr>
      </p:pic>
      <p:sp>
        <p:nvSpPr>
          <p:cNvPr id="89" name="Line 9"/>
          <p:cNvSpPr/>
          <p:nvPr/>
        </p:nvSpPr>
        <p:spPr>
          <a:xfrm>
            <a:off x="3352680" y="5950080"/>
            <a:ext cx="3235320" cy="5270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"/>
          <p:cNvSpPr/>
          <p:nvPr/>
        </p:nvSpPr>
        <p:spPr>
          <a:xfrm>
            <a:off x="2771640" y="4653000"/>
            <a:ext cx="3384720" cy="7128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2771640" y="4805280"/>
            <a:ext cx="4104000" cy="716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04920" y="1371600"/>
            <a:ext cx="51051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Position the Earthmaker, so that it is: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512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onveniently positioned in relation to your kitchen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n a flat, level, well drained surface (eg: paving slabs)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haded from very hot sun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uitably positioned for extracting mature compost.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HECK that the top is properly in place after moving.</a:t>
            </a:r>
            <a:r>
              <a:rPr b="0" lang="en-A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666880" y="0"/>
            <a:ext cx="12193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E:\FH7\Earthmaker\pics-rgb\2006 assembled screen.jpg"/>
          <p:cNvPicPr/>
          <p:nvPr/>
        </p:nvPicPr>
        <p:blipFill>
          <a:blip r:embed="rId5"/>
          <a:srcRect l="9917" t="0" r="12866" b="3706"/>
          <a:stretch/>
        </p:blipFill>
        <p:spPr>
          <a:xfrm>
            <a:off x="5564160" y="685800"/>
            <a:ext cx="3122640" cy="563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6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04920" y="3676680"/>
            <a:ext cx="5105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Hang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PUSH-PULL-TOOL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n a hook at the top of one of the connector strip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Your Earthmaker is now ready for use - read the </a:t>
            </a:r>
            <a:r>
              <a:rPr b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User Guide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666880" y="0"/>
            <a:ext cx="12193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1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621400" y="1219320"/>
            <a:ext cx="3267000" cy="533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1905120" y="227664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Verdana"/>
                <a:ea typeface="Times New Roman"/>
              </a:rPr>
              <a:t>thank you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273400" y="189000"/>
            <a:ext cx="41716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228600" y="2057400"/>
            <a:ext cx="499104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Verdana"/>
                <a:ea typeface="Times New Roman"/>
              </a:rPr>
              <a:t>[NOTE: It is easier to assemble your Earthmaker on a non-skid surface. The Earthmaker can then be picked up and moved to its final site.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nd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FRONT PANEL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on a flat, level surface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(NB: see User Guide - Site Selection)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nd a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IDE PANEL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at right-angles to the front panel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2333880" cy="4718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4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52480" y="2286000"/>
            <a:ext cx="36576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ll the corner tabs together so they overla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ide the 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CONNECTOR STRIP 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etween the tabs – pointed end down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Use the handle at the bottom of the connector strip to guide it throug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5410080" y="76320"/>
            <a:ext cx="3087720" cy="6629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5"/>
          <a:srcRect l="0" t="21212" r="33045" b="12121"/>
          <a:stretch/>
        </p:blipFill>
        <p:spPr>
          <a:xfrm>
            <a:off x="0" y="4324320"/>
            <a:ext cx="171756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6"/>
          <a:srcRect l="0" t="9306" r="49230" b="16281"/>
          <a:stretch/>
        </p:blipFill>
        <p:spPr>
          <a:xfrm>
            <a:off x="0" y="1371600"/>
            <a:ext cx="172404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1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7"/>
          <a:stretch/>
        </p:blipFill>
        <p:spPr>
          <a:xfrm>
            <a:off x="228600" y="31104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04920" y="3200400"/>
            <a:ext cx="5105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tand the other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IDE PANEL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at right-angles to the other side of the front pane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ll the corner tabs together so they overla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ide another connector strip  between the tabs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5603760" y="76320"/>
            <a:ext cx="3225960" cy="6476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04920" y="1371600"/>
            <a:ext cx="510516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a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HELF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o the front and side panels at the lower position. NB: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Ensure the lugs are aligned with the slots.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sh the lugs at the front of the shelf into the slots in the side panels –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work from the front to the back of the shelf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. 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sh lugs at the back of the shelf into place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HINT 1: </a:t>
            </a:r>
            <a:r>
              <a:rPr b="0" i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Lubricating the lugs, and slots (eg: with silicone spray) can assist assembl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5667480" y="1281240"/>
            <a:ext cx="3189240" cy="525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5562720"/>
            <a:ext cx="4800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HINT 2: </a:t>
            </a:r>
            <a:r>
              <a:rPr b="0" i="1" lang="en-US" sz="2000" spc="-1" strike="noStrike">
                <a:solidFill>
                  <a:srgbClr val="333300"/>
                </a:solidFill>
                <a:latin typeface="Verdana"/>
                <a:ea typeface="Times New Roman"/>
              </a:rPr>
              <a:t>Use the heel of your hand to push the lugs into place</a:t>
            </a:r>
            <a:r>
              <a:rPr b="0" i="1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666880" y="0"/>
            <a:ext cx="266724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1" lang="en-NZ" sz="2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i="1" lang="en-NZ" sz="2400" spc="-1" strike="noStrike">
                <a:solidFill>
                  <a:srgbClr val="c00000"/>
                </a:solidFill>
                <a:latin typeface="Verdana"/>
              </a:rPr>
              <a:t>- continu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667480" y="1281240"/>
            <a:ext cx="3189240" cy="5257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5333760" cy="3476520"/>
          </a:xfrm>
          <a:prstGeom prst="rect">
            <a:avLst/>
          </a:prstGeom>
          <a:ln w="0">
            <a:noFill/>
          </a:ln>
        </p:spPr>
      </p:pic>
      <p:sp>
        <p:nvSpPr>
          <p:cNvPr id="66" name="Line 8"/>
          <p:cNvSpPr/>
          <p:nvPr/>
        </p:nvSpPr>
        <p:spPr>
          <a:xfrm>
            <a:off x="5562720" y="3429000"/>
            <a:ext cx="2730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5562720" y="3429000"/>
            <a:ext cx="295884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5562720" y="3429000"/>
            <a:ext cx="3200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3"/>
          <a:stretch/>
        </p:blipFill>
        <p:spPr>
          <a:xfrm>
            <a:off x="228600" y="26028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457200" y="3809880"/>
            <a:ext cx="4952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When the lower shelf is secure, place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BACK PANEL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etween the two side pane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ll the tabs together and slide the connector strips between th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5638680" y="1146240"/>
            <a:ext cx="3192480" cy="540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04920" y="2916360"/>
            <a:ext cx="53337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512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the other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SHELF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o the </a:t>
            </a:r>
            <a:r>
              <a:rPr b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ack panel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and the two side panels - pushing the lugs into the slo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NOTE: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his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upper shelf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opes down from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ack panel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towards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ront,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while the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lower shelf 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slopes down from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ront panel</a:t>
            </a:r>
            <a:r>
              <a:rPr b="0" i="1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towards the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back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5664240" y="1066680"/>
            <a:ext cx="3205080" cy="541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04920" y="1628640"/>
            <a:ext cx="4952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Fit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LID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to the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  <a:ea typeface="Times New Roman"/>
              </a:rPr>
              <a:t>TOP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in the fully open posi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Align the lug on the spindle with the notch in the ho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Push the spindle firmly into place. (It may help to place the assembly upside down   on a soft surface and apply pressure with a foo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Check from to ensure the spindle is fully in place.</a:t>
            </a:r>
            <a:r>
              <a:rPr b="0" lang="en-AU" sz="2400" spc="-1" strike="noStrike">
                <a:solidFill>
                  <a:srgbClr val="333300"/>
                </a:solidFill>
                <a:latin typeface="Verdana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666880" y="0"/>
            <a:ext cx="6858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Verdana"/>
              </a:rPr>
              <a:t>Step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00000"/>
                </a:solidFill>
                <a:latin typeface="Verdana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4"/>
          <a:stretch/>
        </p:blipFill>
        <p:spPr>
          <a:xfrm>
            <a:off x="4638600" y="2708280"/>
            <a:ext cx="4422960" cy="302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228600" y="237960"/>
            <a:ext cx="2455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21:56:13Z</dcterms:created>
  <dc:creator>Michael Smythe</dc:creator>
  <dc:description/>
  <dc:language>en-US</dc:language>
  <cp:lastModifiedBy>Michael Smythe</cp:lastModifiedBy>
  <dcterms:modified xsi:type="dcterms:W3CDTF">2012-10-10T08:38:07Z</dcterms:modified>
  <cp:revision>29</cp:revision>
  <dc:subject/>
  <dc:title>PowerPoint Presentation</dc:title>
</cp:coreProperties>
</file>