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14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49D0-B82E-4288-8B58-4F0314DBE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9656-950D-4B46-9A2A-7401D512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AE42-7CC7-48F7-B8D6-F924AFC8E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BBD0-D934-4FA8-B8E8-76BB2CCF7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EB19-7F01-4DD8-BBCD-E6C31193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5690-D3F8-4EF2-B90E-A3CF9201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A8A7-8687-460C-AB16-E11E9839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11F8-EDB9-4275-A920-A4B0F62E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4AD5-B2D8-42F1-960A-25CC0DFB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A123-4B86-422A-AF03-DCD5A874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A7BB-A3AF-49B7-87A2-38CFBFB4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7A17-0A06-4D5E-BC0D-C6019A42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ab5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072D-F9A0-40F7-86CE-86066D57F97C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5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6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9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0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2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04920" y="3597120"/>
            <a:ext cx="4114800" cy="26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Verdana"/>
                <a:ea typeface="Times New Roman"/>
              </a:rPr>
              <a:t>Assembly Instructions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last update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October 201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8" descr="E:\FH7\Earthmaker\pics-rgb\2006 assembled screen.jpg"/>
          <p:cNvPicPr/>
          <p:nvPr/>
        </p:nvPicPr>
        <p:blipFill>
          <a:blip r:embed="rId1"/>
          <a:stretch/>
        </p:blipFill>
        <p:spPr>
          <a:xfrm>
            <a:off x="4406760" y="0"/>
            <a:ext cx="47372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356400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304920" y="2003400"/>
            <a:ext cx="510516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Fit the 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  <a:ea typeface="Times New Roman"/>
              </a:rPr>
              <a:t>TOP PANEL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Starting with the back and sides, snap the slots over the tabs. </a:t>
            </a:r>
            <a:r>
              <a:rPr b="0" lang="en-US" sz="2400" spc="-1" strike="noStrike" u="sng">
                <a:solidFill>
                  <a:srgbClr val="333300"/>
                </a:solidFill>
                <a:uFillTx/>
                <a:latin typeface="Verdana"/>
                <a:ea typeface="Times New Roman"/>
              </a:rPr>
              <a:t>Support the side panels from the inside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while pushing the top panel down to make a definite click</a:t>
            </a:r>
            <a:r>
              <a:rPr b="0" i="1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Snap the slots at the front over the tabs on the Front Panel while pushing the front panel out from the inside.</a:t>
            </a:r>
            <a:r>
              <a:rPr b="0" lang="en-AU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r>
              <a:rPr b="0" lang="en-NZ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                               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666880" y="0"/>
            <a:ext cx="68580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Verdana"/>
              </a:rPr>
              <a:t>Step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cc0000"/>
                </a:solidFill>
                <a:latin typeface="Verdana"/>
              </a:rPr>
              <a:t>8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5356080" y="914400"/>
            <a:ext cx="3787920" cy="5715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4"/>
          <a:stretch/>
        </p:blipFill>
        <p:spPr>
          <a:xfrm>
            <a:off x="228600" y="237960"/>
            <a:ext cx="245592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304920" y="2590920"/>
            <a:ext cx="47718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Insert the 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  <a:ea typeface="Times New Roman"/>
              </a:rPr>
              <a:t>PULL-OUT PANEL</a:t>
            </a:r>
            <a:r>
              <a:rPr b="0" lang="en-U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into the slot above the do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Check that the 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  <a:ea typeface="Times New Roman"/>
              </a:rPr>
              <a:t>DOOR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is correctly fitted.</a:t>
            </a:r>
            <a:r>
              <a:rPr b="0" lang="en-A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00"/>
                </a:solidFill>
                <a:latin typeface="Verdana"/>
              </a:rPr>
              <a:t> </a:t>
            </a:r>
            <a:r>
              <a:rPr b="0" lang="en-AU" sz="2400" spc="-1" strike="noStrike">
                <a:solidFill>
                  <a:srgbClr val="333300"/>
                </a:solidFill>
                <a:latin typeface="Verdana"/>
              </a:rPr>
              <a:t>Place the door in the front panel so that its bottom edge fits behind the ri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666880" y="0"/>
            <a:ext cx="68580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Verdana"/>
              </a:rPr>
              <a:t>Step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cc0000"/>
                </a:solidFill>
                <a:latin typeface="Verdana"/>
              </a:rPr>
              <a:t>9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4"/>
          <a:stretch/>
        </p:blipFill>
        <p:spPr>
          <a:xfrm>
            <a:off x="5402160" y="836640"/>
            <a:ext cx="3741840" cy="5759280"/>
          </a:xfrm>
          <a:prstGeom prst="rect">
            <a:avLst/>
          </a:prstGeom>
          <a:ln w="0">
            <a:noFill/>
          </a:ln>
        </p:spPr>
      </p:pic>
      <p:sp>
        <p:nvSpPr>
          <p:cNvPr id="89" name="Line 9"/>
          <p:cNvSpPr/>
          <p:nvPr/>
        </p:nvSpPr>
        <p:spPr>
          <a:xfrm>
            <a:off x="3352680" y="5950080"/>
            <a:ext cx="3235320" cy="527040"/>
          </a:xfrm>
          <a:prstGeom prst="line">
            <a:avLst/>
          </a:prstGeom>
          <a:ln w="284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9"/>
          <p:cNvSpPr/>
          <p:nvPr/>
        </p:nvSpPr>
        <p:spPr>
          <a:xfrm>
            <a:off x="2771640" y="4653000"/>
            <a:ext cx="3384720" cy="71280"/>
          </a:xfrm>
          <a:prstGeom prst="line">
            <a:avLst/>
          </a:prstGeom>
          <a:ln w="284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"/>
          <p:cNvSpPr/>
          <p:nvPr/>
        </p:nvSpPr>
        <p:spPr>
          <a:xfrm>
            <a:off x="2771640" y="4805280"/>
            <a:ext cx="4104000" cy="71640"/>
          </a:xfrm>
          <a:prstGeom prst="line">
            <a:avLst/>
          </a:prstGeom>
          <a:ln w="284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0" descr=""/>
          <p:cNvPicPr/>
          <p:nvPr/>
        </p:nvPicPr>
        <p:blipFill>
          <a:blip r:embed="rId5"/>
          <a:stretch/>
        </p:blipFill>
        <p:spPr>
          <a:xfrm>
            <a:off x="228600" y="237960"/>
            <a:ext cx="245592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304920" y="1371600"/>
            <a:ext cx="510516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Verdana"/>
                <a:ea typeface="Times New Roman"/>
              </a:rPr>
              <a:t>Position the Earthmaker, so that it is: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1512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conveniently positioned in relation to your kitchen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on a flat, level, well drained surface (eg: paving slabs)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shaded from very hot sun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suitably positioned for extracting mature compost.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CHECK that the top is properly in place after moving.</a:t>
            </a:r>
            <a:r>
              <a:rPr b="0" lang="en-A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666880" y="0"/>
            <a:ext cx="121932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Verdana"/>
              </a:rPr>
              <a:t>Step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c00000"/>
                </a:solidFill>
                <a:latin typeface="Verdana"/>
              </a:rPr>
              <a:t>1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6" descr="E:\FH7\Earthmaker\pics-rgb\2006 assembled screen.jpg"/>
          <p:cNvPicPr/>
          <p:nvPr/>
        </p:nvPicPr>
        <p:blipFill>
          <a:blip r:embed="rId5"/>
          <a:srcRect l="9917" t="0" r="12866" b="3706"/>
          <a:stretch/>
        </p:blipFill>
        <p:spPr>
          <a:xfrm>
            <a:off x="5564160" y="685800"/>
            <a:ext cx="3122640" cy="5638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6"/>
          <a:stretch/>
        </p:blipFill>
        <p:spPr>
          <a:xfrm>
            <a:off x="228600" y="237960"/>
            <a:ext cx="245592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304920" y="3676680"/>
            <a:ext cx="51051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Hang the 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  <a:ea typeface="Times New Roman"/>
              </a:rPr>
              <a:t>PUSH-PULL-TOOL</a:t>
            </a:r>
            <a:r>
              <a:rPr b="0" lang="en-U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on a hook at the top of one of the connector strip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Your Earthmaker is now ready for use - read the </a:t>
            </a:r>
            <a:r>
              <a:rPr b="1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User Guide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666880" y="0"/>
            <a:ext cx="121932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Verdana"/>
              </a:rPr>
              <a:t>Step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c00000"/>
                </a:solidFill>
                <a:latin typeface="Verdana"/>
              </a:rPr>
              <a:t>11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5621400" y="1219320"/>
            <a:ext cx="3267000" cy="5333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2"/>
          <a:stretch/>
        </p:blipFill>
        <p:spPr>
          <a:xfrm>
            <a:off x="228600" y="237960"/>
            <a:ext cx="245592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6"/>
          <p:cNvSpPr/>
          <p:nvPr/>
        </p:nvSpPr>
        <p:spPr>
          <a:xfrm>
            <a:off x="1905120" y="227664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Verdana"/>
                <a:ea typeface="Times New Roman"/>
              </a:rPr>
              <a:t>thank you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2273400" y="189000"/>
            <a:ext cx="417168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228600" y="2057400"/>
            <a:ext cx="4991040" cy="44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Verdana"/>
                <a:ea typeface="Times New Roman"/>
              </a:rPr>
              <a:t>[NOTE: It is easier to assemble your Earthmaker on a non-skid surface. The Earthmaker can then be picked up and moved to its final site.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Stand the 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  <a:ea typeface="Times New Roman"/>
              </a:rPr>
              <a:t>FRONT PANEL</a:t>
            </a:r>
            <a:r>
              <a:rPr b="0" lang="en-U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on a flat, level surface </a:t>
            </a:r>
            <a:r>
              <a:rPr b="0" i="1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(NB: see User Guide - Site Selection)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Stand a 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  <a:ea typeface="Times New Roman"/>
              </a:rPr>
              <a:t>SIDE PANEL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at right-angles to the front panel.</a:t>
            </a:r>
            <a:r>
              <a:rPr b="0" lang="en-AU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3"/>
          <a:stretch/>
        </p:blipFill>
        <p:spPr>
          <a:xfrm>
            <a:off x="5410080" y="1828800"/>
            <a:ext cx="2333880" cy="47181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8"/>
          <p:cNvSpPr/>
          <p:nvPr/>
        </p:nvSpPr>
        <p:spPr>
          <a:xfrm>
            <a:off x="2666880" y="0"/>
            <a:ext cx="68580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Verdana"/>
              </a:rPr>
              <a:t>Step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c00000"/>
                </a:solidFill>
                <a:latin typeface="Verdana"/>
              </a:rPr>
              <a:t>1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" descr=""/>
          <p:cNvPicPr/>
          <p:nvPr/>
        </p:nvPicPr>
        <p:blipFill>
          <a:blip r:embed="rId4"/>
          <a:stretch/>
        </p:blipFill>
        <p:spPr>
          <a:xfrm>
            <a:off x="228600" y="237960"/>
            <a:ext cx="245592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752480" y="2286000"/>
            <a:ext cx="36576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Pull the corner tabs together so they overlap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Slide the  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  <a:ea typeface="Times New Roman"/>
              </a:rPr>
              <a:t>CONNECTOR STRIP 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between the tabs – pointed end down.</a:t>
            </a:r>
            <a:r>
              <a:rPr b="0" lang="en-AU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r>
              <a:rPr b="0" lang="en-NZ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Use the handle at the bottom of the connector strip to guide it throug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4"/>
          <a:stretch/>
        </p:blipFill>
        <p:spPr>
          <a:xfrm>
            <a:off x="5410080" y="76320"/>
            <a:ext cx="3087720" cy="6629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"/>
          <p:cNvPicPr/>
          <p:nvPr/>
        </p:nvPicPr>
        <p:blipFill>
          <a:blip r:embed="rId5"/>
          <a:srcRect l="0" t="21212" r="33045" b="12121"/>
          <a:stretch/>
        </p:blipFill>
        <p:spPr>
          <a:xfrm>
            <a:off x="0" y="4324320"/>
            <a:ext cx="1717560" cy="2362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6"/>
          <a:srcRect l="0" t="9306" r="49230" b="16281"/>
          <a:stretch/>
        </p:blipFill>
        <p:spPr>
          <a:xfrm>
            <a:off x="0" y="1371600"/>
            <a:ext cx="1724040" cy="2743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1"/>
          <p:cNvSpPr/>
          <p:nvPr/>
        </p:nvSpPr>
        <p:spPr>
          <a:xfrm>
            <a:off x="2666880" y="0"/>
            <a:ext cx="68580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Verdana"/>
              </a:rPr>
              <a:t>Step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c00000"/>
                </a:solidFill>
                <a:latin typeface="Verdana"/>
              </a:rPr>
              <a:t>2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7"/>
          <a:stretch/>
        </p:blipFill>
        <p:spPr>
          <a:xfrm>
            <a:off x="228600" y="311040"/>
            <a:ext cx="245592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304920" y="3200400"/>
            <a:ext cx="51051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Stand the other 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  <a:ea typeface="Times New Roman"/>
              </a:rPr>
              <a:t>SIDE PANEL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at right-angles to the other side of the front pane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Pull the corner tabs together so they overlap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Slide another connector strip  between the tabs.</a:t>
            </a:r>
            <a:r>
              <a:rPr b="0" lang="en-AU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4"/>
          <a:stretch/>
        </p:blipFill>
        <p:spPr>
          <a:xfrm>
            <a:off x="5603760" y="76320"/>
            <a:ext cx="3225960" cy="6476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9"/>
          <p:cNvSpPr/>
          <p:nvPr/>
        </p:nvSpPr>
        <p:spPr>
          <a:xfrm>
            <a:off x="2666880" y="0"/>
            <a:ext cx="68580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Verdana"/>
              </a:rPr>
              <a:t>Step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c00000"/>
                </a:solidFill>
                <a:latin typeface="Verdana"/>
              </a:rPr>
              <a:t>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5"/>
          <a:stretch/>
        </p:blipFill>
        <p:spPr>
          <a:xfrm>
            <a:off x="228600" y="237960"/>
            <a:ext cx="245592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304920" y="1371600"/>
            <a:ext cx="5105160" cy="49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Fit a 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  <a:ea typeface="Times New Roman"/>
              </a:rPr>
              <a:t>SHELF</a:t>
            </a:r>
            <a:r>
              <a:rPr b="0" lang="en-U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to the front and side panels at the lower position. NB: </a:t>
            </a:r>
            <a:r>
              <a:rPr b="0" i="1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Ensure the lugs are aligned with the slots.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Push the lugs at the front of the shelf into the slots in the side panels – </a:t>
            </a:r>
            <a:r>
              <a:rPr b="0" i="1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work from the front to the back of the shelf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. 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Push lugs at the back of the shelf into place.</a:t>
            </a:r>
            <a:r>
              <a:rPr b="0" lang="en-AU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Verdana"/>
                <a:ea typeface="Times New Roman"/>
              </a:rPr>
              <a:t>HINT 1: </a:t>
            </a:r>
            <a:r>
              <a:rPr b="0" i="1" lang="en-US" sz="2000" spc="-1" strike="noStrike">
                <a:solidFill>
                  <a:srgbClr val="333300"/>
                </a:solidFill>
                <a:latin typeface="Verdana"/>
                <a:ea typeface="Times New Roman"/>
              </a:rPr>
              <a:t>Lubricating the lugs, and slots (eg: with silicone spray) can assist assembly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666880" y="0"/>
            <a:ext cx="68580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Verdana"/>
              </a:rPr>
              <a:t>Step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c00000"/>
                </a:solidFill>
                <a:latin typeface="Verdana"/>
              </a:rPr>
              <a:t>4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4"/>
          <a:stretch/>
        </p:blipFill>
        <p:spPr>
          <a:xfrm>
            <a:off x="5667480" y="1281240"/>
            <a:ext cx="3189240" cy="5257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5"/>
          <a:stretch/>
        </p:blipFill>
        <p:spPr>
          <a:xfrm>
            <a:off x="228600" y="237960"/>
            <a:ext cx="245592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04920" y="5562720"/>
            <a:ext cx="4800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Verdana"/>
                <a:ea typeface="Times New Roman"/>
              </a:rPr>
              <a:t>HINT 2: </a:t>
            </a:r>
            <a:r>
              <a:rPr b="0" i="1" lang="en-US" sz="2000" spc="-1" strike="noStrike">
                <a:solidFill>
                  <a:srgbClr val="333300"/>
                </a:solidFill>
                <a:latin typeface="Verdana"/>
                <a:ea typeface="Times New Roman"/>
              </a:rPr>
              <a:t>Use the heel of your hand to push the lugs into place</a:t>
            </a:r>
            <a:r>
              <a:rPr b="0" i="1" lang="en-AU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666880" y="0"/>
            <a:ext cx="266724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Verdana"/>
              </a:rPr>
              <a:t>Step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c00000"/>
                </a:solidFill>
                <a:latin typeface="Verdana"/>
              </a:rPr>
              <a:t>4</a:t>
            </a:r>
            <a:r>
              <a:rPr b="1" lang="en-NZ" sz="24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i="1" lang="en-NZ" sz="2400" spc="-1" strike="noStrike">
                <a:solidFill>
                  <a:srgbClr val="c00000"/>
                </a:solidFill>
                <a:latin typeface="Verdana"/>
              </a:rPr>
              <a:t>- continu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5667480" y="1281240"/>
            <a:ext cx="3189240" cy="5257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5333760" cy="3476520"/>
          </a:xfrm>
          <a:prstGeom prst="rect">
            <a:avLst/>
          </a:prstGeom>
          <a:ln w="0">
            <a:noFill/>
          </a:ln>
        </p:spPr>
      </p:pic>
      <p:sp>
        <p:nvSpPr>
          <p:cNvPr id="66" name="Line 8"/>
          <p:cNvSpPr/>
          <p:nvPr/>
        </p:nvSpPr>
        <p:spPr>
          <a:xfrm>
            <a:off x="5562720" y="3429000"/>
            <a:ext cx="2730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"/>
          <p:cNvSpPr/>
          <p:nvPr/>
        </p:nvSpPr>
        <p:spPr>
          <a:xfrm>
            <a:off x="5562720" y="3429000"/>
            <a:ext cx="2958840" cy="10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5562720" y="3429000"/>
            <a:ext cx="3200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" descr=""/>
          <p:cNvPicPr/>
          <p:nvPr/>
        </p:nvPicPr>
        <p:blipFill>
          <a:blip r:embed="rId3"/>
          <a:stretch/>
        </p:blipFill>
        <p:spPr>
          <a:xfrm>
            <a:off x="228600" y="260280"/>
            <a:ext cx="245592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457200" y="3809880"/>
            <a:ext cx="49528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When the lower shelf is secure, place the 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  <a:ea typeface="Times New Roman"/>
              </a:rPr>
              <a:t>BACK PANEL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between the two side panel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Pull the tabs together and slide the connector strips between the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666880" y="0"/>
            <a:ext cx="68580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Verdana"/>
              </a:rPr>
              <a:t>Step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c00000"/>
                </a:solidFill>
                <a:latin typeface="Verdana"/>
              </a:rPr>
              <a:t>5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5638680" y="1146240"/>
            <a:ext cx="3192480" cy="5406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4"/>
          <a:stretch/>
        </p:blipFill>
        <p:spPr>
          <a:xfrm>
            <a:off x="228600" y="237960"/>
            <a:ext cx="245592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304920" y="2916360"/>
            <a:ext cx="53337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1512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Fit the other 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  <a:ea typeface="Times New Roman"/>
              </a:rPr>
              <a:t>SHELF</a:t>
            </a:r>
            <a:r>
              <a:rPr b="0" lang="en-U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to the </a:t>
            </a:r>
            <a:r>
              <a:rPr b="1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back panel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and the two side panels - pushing the lugs into the slo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NOTE: </a:t>
            </a:r>
            <a:r>
              <a:rPr b="0" i="1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This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upper shelf </a:t>
            </a:r>
            <a:r>
              <a:rPr b="0" i="1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slopes down from the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back panel</a:t>
            </a:r>
            <a:r>
              <a:rPr b="0" i="1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towards the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front,</a:t>
            </a:r>
            <a:r>
              <a:rPr b="0" i="1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while the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lower shelf </a:t>
            </a:r>
            <a:r>
              <a:rPr b="0" i="1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slopes down from the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front panel</a:t>
            </a:r>
            <a:r>
              <a:rPr b="0" i="1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towards the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back</a:t>
            </a:r>
            <a:r>
              <a:rPr b="0" lang="en-AU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666880" y="0"/>
            <a:ext cx="68580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Verdana"/>
              </a:rPr>
              <a:t>Step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c00000"/>
                </a:solidFill>
                <a:latin typeface="Verdana"/>
              </a:rPr>
              <a:t>6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2"/>
          <a:stretch/>
        </p:blipFill>
        <p:spPr>
          <a:xfrm>
            <a:off x="5664240" y="1066680"/>
            <a:ext cx="3205080" cy="5410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3"/>
          <a:stretch/>
        </p:blipFill>
        <p:spPr>
          <a:xfrm>
            <a:off x="228600" y="237960"/>
            <a:ext cx="245592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304920" y="1628640"/>
            <a:ext cx="49528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Fit the 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  <a:ea typeface="Times New Roman"/>
              </a:rPr>
              <a:t>LID</a:t>
            </a:r>
            <a:r>
              <a:rPr b="0" lang="en-U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to the 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  <a:ea typeface="Times New Roman"/>
              </a:rPr>
              <a:t>TOP</a:t>
            </a:r>
            <a:r>
              <a:rPr b="0" lang="en-U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in the fully open position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Align the lug on the spindle with the notch in the hole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Push the spindle firmly into place. (It may help to place the assembly upside down   on a soft surface and apply pressure with a foot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Check from to ensure the spindle is fully in place.</a:t>
            </a:r>
            <a:r>
              <a:rPr b="0" lang="en-AU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666880" y="0"/>
            <a:ext cx="68580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Verdana"/>
              </a:rPr>
              <a:t>Step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c00000"/>
                </a:solidFill>
                <a:latin typeface="Verdana"/>
              </a:rPr>
              <a:t>7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4"/>
          <a:stretch/>
        </p:blipFill>
        <p:spPr>
          <a:xfrm>
            <a:off x="4638600" y="2708280"/>
            <a:ext cx="4422960" cy="3025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"/>
          <p:cNvPicPr/>
          <p:nvPr/>
        </p:nvPicPr>
        <p:blipFill>
          <a:blip r:embed="rId5"/>
          <a:stretch/>
        </p:blipFill>
        <p:spPr>
          <a:xfrm>
            <a:off x="228600" y="237960"/>
            <a:ext cx="245592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21:56:13Z</dcterms:created>
  <dc:creator>Michael Smythe</dc:creator>
  <dc:description/>
  <dc:language>en-US</dc:language>
  <cp:lastModifiedBy>Michael Smythe</cp:lastModifiedBy>
  <dcterms:modified xsi:type="dcterms:W3CDTF">2012-10-10T08:38:07Z</dcterms:modified>
  <cp:revision>29</cp:revision>
  <dc:subject/>
  <dc:title>PowerPoint Presentation</dc:title>
</cp:coreProperties>
</file>