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4EC-6EAF-4E7B-B265-83F1E6EE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680-37E9-46AC-8A8E-B5500C5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607-AFDE-4330-8C07-C010796B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FB5-5285-4B21-890F-A118229D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A38-CFD4-429D-A130-16258085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941-811D-40B9-9A86-87A1A82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3E3-159D-4279-A00B-B14775B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C74-80BA-4F0F-8528-5F4AF47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34D-E782-4A90-ADDC-70C16CD7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C82-1FDC-4B18-803A-EA4353D1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0EA-BBB7-4673-A3F2-E7988A6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698-27B2-4CF0-83D4-2CFE940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ab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92B-61EB-417A-A4C9-64DB3CD6D98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597120"/>
            <a:ext cx="41148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Verdana"/>
                <a:ea typeface="Times New Roman"/>
              </a:rPr>
              <a:t>Assembly Instruction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last upda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ctober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E:\FH7\Earthmaker\pics-rgb\2006 assembled screen.jpg"/>
          <p:cNvPicPr/>
          <p:nvPr/>
        </p:nvPicPr>
        <p:blipFill>
          <a:blip r:embed="rId1"/>
          <a:stretch/>
        </p:blipFill>
        <p:spPr>
          <a:xfrm>
            <a:off x="4406760" y="0"/>
            <a:ext cx="4737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564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2003400"/>
            <a:ext cx="510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TOP PANE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rting with the back and sides, snap the slots over the tabs. </a:t>
            </a:r>
            <a:r>
              <a:rPr b="0" lang="en-US" sz="2400" spc="-1" strike="noStrike" u="sng">
                <a:solidFill>
                  <a:srgbClr val="333300"/>
                </a:solidFill>
                <a:uFillTx/>
                <a:latin typeface="Verdana"/>
                <a:ea typeface="Times New Roman"/>
              </a:rPr>
              <a:t>Support the side panels from the insid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while pushing the top panel down to make a definite click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nap the slots at the front over the tabs on the Front Panel while pushing the front panel out from the insid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Verdana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5356080" y="914400"/>
            <a:ext cx="378792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04920" y="2590920"/>
            <a:ext cx="47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ser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PULL-OUT PANE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to the slot above the do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tha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DOOR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is correctly fitted.</a:t>
            </a:r>
            <a:r>
              <a:rPr b="0" lang="en-A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</a:rPr>
              <a:t>Place the door in the front panel so that its bottom edge fits behind the ri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Verdana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4"/>
          <a:stretch/>
        </p:blipFill>
        <p:spPr>
          <a:xfrm>
            <a:off x="5402160" y="836640"/>
            <a:ext cx="3741840" cy="5759280"/>
          </a:xfrm>
          <a:prstGeom prst="rect">
            <a:avLst/>
          </a:prstGeom>
          <a:ln w="0">
            <a:noFill/>
          </a:ln>
        </p:spPr>
      </p:pic>
      <p:sp>
        <p:nvSpPr>
          <p:cNvPr id="89" name="Line 9"/>
          <p:cNvSpPr/>
          <p:nvPr/>
        </p:nvSpPr>
        <p:spPr>
          <a:xfrm>
            <a:off x="3352680" y="5950080"/>
            <a:ext cx="3235320" cy="5270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>
            <a:off x="2771640" y="4653000"/>
            <a:ext cx="3384720" cy="7128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2771640" y="4805280"/>
            <a:ext cx="4104000" cy="71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1371600"/>
            <a:ext cx="51051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Position the Earthmaker, so that it is: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512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onveniently positioned in relation to your kitchen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flat, level, well drained surface (eg: paving slabs)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haded from very hot sun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uitably positioned for extracting mature compost.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that the top is properly in place after moving.</a:t>
            </a:r>
            <a:r>
              <a:rPr b="0" lang="en-A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666880" y="0"/>
            <a:ext cx="1219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E:\FH7\Earthmaker\pics-rgb\2006 assembled screen.jpg"/>
          <p:cNvPicPr/>
          <p:nvPr/>
        </p:nvPicPr>
        <p:blipFill>
          <a:blip r:embed="rId5"/>
          <a:srcRect l="9917" t="0" r="12866" b="3706"/>
          <a:stretch/>
        </p:blipFill>
        <p:spPr>
          <a:xfrm>
            <a:off x="5564160" y="685800"/>
            <a:ext cx="3122640" cy="563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6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04920" y="3676680"/>
            <a:ext cx="5105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Hang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PUSH-PULL-TOO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hook at the top of one of the connector stri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Your Earthmaker is now ready for use - read the </a:t>
            </a:r>
            <a:r>
              <a:rPr b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User Guid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666880" y="0"/>
            <a:ext cx="1219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621400" y="1219320"/>
            <a:ext cx="3267000" cy="53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1905120" y="227664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Times New Roman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73400" y="189000"/>
            <a:ext cx="417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28600" y="2057400"/>
            <a:ext cx="499104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Times New Roman"/>
              </a:rPr>
              <a:t>[NOTE: It is easier to assemble your Earthmaker on a non-skid surface. The Earthmaker can then be picked up and moved to its final site.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FRONT PANE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flat, level surface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(NB: see User Guide - Site Selection)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a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IDE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t right-angles to the front panel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333880" cy="4718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52480" y="2286000"/>
            <a:ext cx="3657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corner tabs together so they overla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ide the 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CONNECTOR STRIP 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etween the tabs – pointed end down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Use the handle at the bottom of the connector strip to guide it throug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410080" y="76320"/>
            <a:ext cx="308772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5"/>
          <a:srcRect l="0" t="21212" r="33045" b="12121"/>
          <a:stretch/>
        </p:blipFill>
        <p:spPr>
          <a:xfrm>
            <a:off x="0" y="4324320"/>
            <a:ext cx="171756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6"/>
          <a:srcRect l="0" t="9306" r="49230" b="16281"/>
          <a:stretch/>
        </p:blipFill>
        <p:spPr>
          <a:xfrm>
            <a:off x="0" y="1371600"/>
            <a:ext cx="172404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7"/>
          <a:stretch/>
        </p:blipFill>
        <p:spPr>
          <a:xfrm>
            <a:off x="228600" y="31104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04920" y="3200400"/>
            <a:ext cx="5105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the other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IDE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t right-angles to the other side of the front pan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corner tabs together so they overla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ide another connector strip  between the tabs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5603760" y="76320"/>
            <a:ext cx="3225960" cy="6476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1371600"/>
            <a:ext cx="510516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a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HELF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front and side panels at the lower position. NB: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Ensure the lugs are aligned with the slots.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the lugs at the front of the shelf into the slots in the side panels –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work from the front to the back of the shelf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 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lugs at the back of the shelf into plac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HINT 1: </a:t>
            </a:r>
            <a:r>
              <a:rPr b="0" i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Lubricating the lugs, and slots (eg: with silicone spray) can assist assemb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5667480" y="1281240"/>
            <a:ext cx="3189240" cy="525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5562720"/>
            <a:ext cx="4800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HINT 2: </a:t>
            </a:r>
            <a:r>
              <a:rPr b="0" i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Use the heel of your hand to push the lugs into place</a:t>
            </a:r>
            <a:r>
              <a:rPr b="0" i="1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666880" y="0"/>
            <a:ext cx="26672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1" lang="en-NZ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i="1" lang="en-NZ" sz="2400" spc="-1" strike="noStrike">
                <a:solidFill>
                  <a:srgbClr val="c00000"/>
                </a:solidFill>
                <a:latin typeface="Verdana"/>
              </a:rPr>
              <a:t>- continu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67480" y="1281240"/>
            <a:ext cx="3189240" cy="5257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333760" cy="3476520"/>
          </a:xfrm>
          <a:prstGeom prst="rect">
            <a:avLst/>
          </a:prstGeom>
          <a:ln w="0">
            <a:noFill/>
          </a:ln>
        </p:spPr>
      </p:pic>
      <p:sp>
        <p:nvSpPr>
          <p:cNvPr id="66" name="Line 8"/>
          <p:cNvSpPr/>
          <p:nvPr/>
        </p:nvSpPr>
        <p:spPr>
          <a:xfrm>
            <a:off x="5562720" y="3429000"/>
            <a:ext cx="2730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5562720" y="3429000"/>
            <a:ext cx="295884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5562720" y="3429000"/>
            <a:ext cx="3200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228600" y="26028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457200" y="3809880"/>
            <a:ext cx="4952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When the lower shelf is secure, place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BACK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etween the two side pane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tabs together and slide the connector strips between th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5638680" y="1146240"/>
            <a:ext cx="3192480" cy="540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04920" y="2916360"/>
            <a:ext cx="5333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512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other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HELF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</a:t>
            </a:r>
            <a:r>
              <a:rPr b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 panel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and the two side panels - pushing the lugs into the slo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NOTE: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his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upper shelf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opes down from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 panel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towards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ront,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while th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lower shelf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opes down from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ront panel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towards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5664240" y="1066680"/>
            <a:ext cx="3205080" cy="541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04920" y="1628640"/>
            <a:ext cx="4952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LID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TOP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 the fully open posi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lign the lug on the spindle with the notch in the ho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the spindle firmly into place. (It may help to place the assembly upside down   on a soft surface and apply pressure with a foo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from to ensure the spindle is fully in plac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4"/>
          <a:stretch/>
        </p:blipFill>
        <p:spPr>
          <a:xfrm>
            <a:off x="4638600" y="2708280"/>
            <a:ext cx="4422960" cy="302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21:56:13Z</dcterms:created>
  <dc:creator>Michael Smythe</dc:creator>
  <dc:description/>
  <dc:language>en-US</dc:language>
  <cp:lastModifiedBy>Michael Smythe</cp:lastModifiedBy>
  <dcterms:modified xsi:type="dcterms:W3CDTF">2012-10-10T08:38:07Z</dcterms:modified>
  <cp:revision>29</cp:revision>
  <dc:subject/>
  <dc:title>PowerPoint Presentation</dc:title>
</cp:coreProperties>
</file>